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A70-4608-4055-A461-A4ED4231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A65-3ED8-400C-8BE8-B6C916E4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03B-7B96-42B9-9113-3EAC9F3F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3C8-869F-43C0-83B5-0045F545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3A9-6658-475A-9DE9-8341208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D17-99B4-421A-9998-00C2F64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534-2AC6-41B0-8727-B26BF73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770-8209-4F37-8734-220F645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140-4404-495D-9921-86266F96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00D-F3E4-4835-A47A-D6E59C4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256-324A-4793-9052-9CFA0AF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B3C-7C9E-4095-B7E0-1EAFA0E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619-7017-4ECE-925E-3A7F9636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3962520"/>
            <a:ext cx="758196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Author Info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35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g_1857" descr=""/>
          <p:cNvPicPr/>
          <p:nvPr/>
        </p:nvPicPr>
        <p:blipFill>
          <a:blip r:embed="rId1"/>
          <a:srcRect l="27676" t="0" r="28044" b="247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828000">
            <a:off x="762120" y="373392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orte"/>
              </a:rPr>
              <a:t>Background Inf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2168400">
            <a:off x="1218960" y="2362320"/>
            <a:ext cx="828036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LITERARY ELEMENT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48" name=""/>
          <p:cNvSpPr/>
          <p:nvPr/>
        </p:nvSpPr>
        <p:spPr>
          <a:xfrm rot="20508600">
            <a:off x="0" y="8377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680" y="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820400">
            <a:off x="380160" y="266652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866400">
            <a:off x="6312600" y="5214240"/>
            <a:ext cx="173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089800">
            <a:off x="777276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ackground" descr=""/>
          <p:cNvPicPr/>
          <p:nvPr/>
        </p:nvPicPr>
        <p:blipFill>
          <a:blip r:embed="rId1"/>
          <a:srcRect l="0" t="0" r="0" b="18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9480" y="3048120"/>
            <a:ext cx="7848720" cy="33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Challenging Voc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920"/>
            <a:ext cx="21333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5181480"/>
            <a:ext cx="2438280" cy="1447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AU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876920"/>
            <a:ext cx="2819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BU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0880"/>
            <a:ext cx="2438280" cy="1447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90720" y="304920"/>
            <a:ext cx="6933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urlz MT"/>
              </a:rPr>
              <a:t>THEM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4657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luenebula" descr=""/>
          <p:cNvPicPr/>
          <p:nvPr/>
        </p:nvPicPr>
        <p:blipFill>
          <a:blip r:embed="rId1"/>
          <a:srcRect l="21979" t="8855" r="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3166200">
            <a:off x="-509400" y="2719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Work Cite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21:55Z</dcterms:created>
  <dc:creator>John</dc:creator>
  <dc:description/>
  <dc:language>en-US</dc:language>
  <cp:lastModifiedBy>John</cp:lastModifiedBy>
  <dcterms:modified xsi:type="dcterms:W3CDTF">2009-05-20T02:03:46Z</dcterms:modified>
  <cp:revision>2</cp:revision>
  <dc:subject/>
  <dc:title>Slide 1</dc:title>
</cp:coreProperties>
</file>